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BDC-8FA6-4590-8E63-EB7E0570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9F7-E0E5-4F86-B6D8-8C65F0E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D79-E143-41FF-8039-A6FCD948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0AF-E5B7-4076-AE69-0DBC078D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CE1F-926C-4DED-94BD-48BD3FFF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27F3-E7D7-49F2-9366-043F1525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18D2-E9A4-40EC-ABCF-E745B283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6644-CD47-4E1B-9B9B-6BAF2679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3BC0-0856-4FE3-914A-D81BB4FF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9261-0C53-4571-A96C-E88FD2A3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EE4B-940C-40B4-A9CF-F8A7BA3F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8EA-81DC-4293-B22B-3145D29A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9542-3007-42ED-8219-AEF25E7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45FF-ACBC-4639-96DD-9C431EC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B28-2CC3-4A0F-B1CE-CE60CD4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655E-ED8D-4C58-A436-9E0C4921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05E5-FF37-4974-B623-7A092C80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DD1-D163-4E68-A422-7D01B6A1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DA2-6B61-4FEA-84D5-7A1B7F8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181-C00D-405B-9732-7B64CD9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7AA-3FE2-4204-BB07-06837BD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9D2-BC61-450F-BD26-A167D79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A4A-993F-4F4E-90DC-2768576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35B-7A4E-4422-BB25-57A812A9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8E46-6E61-48FD-BCFC-C4313936F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7BB-7D9C-42D6-8507-BB6C5C566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 a spoon on a string so it is in a “V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ng the spoon so it hits the table/de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Wind the string around a finger on each hand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T—How will what you hear change when you bang it on the desk/table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writing your PREDICTION, try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ngling Spo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what you think happened to the s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191120"/>
            <a:ext cx="15264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181480"/>
            <a:ext cx="15264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43400" y="2895480"/>
            <a:ext cx="1219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048120" y="2971800"/>
            <a:ext cx="129528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0:00:48Z</dcterms:created>
  <dc:creator>Ed Robeck</dc:creator>
  <dc:description/>
  <dc:language>en-US</dc:language>
  <cp:lastModifiedBy>Ed Robeck</cp:lastModifiedBy>
  <dcterms:modified xsi:type="dcterms:W3CDTF">2008-04-16T00:21:29Z</dcterms:modified>
  <cp:revision>2</cp:revision>
  <dc:subject/>
  <dc:title>Dangling Spoons</dc:title>
</cp:coreProperties>
</file>